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19.wmf" ContentType="image/x-wmf"/>
  <Override PartName="/ppt/media/image17.png" ContentType="image/png"/>
  <Override PartName="/ppt/media/image16.jpeg" ContentType="image/jpeg"/>
  <Override PartName="/ppt/media/image15.png" ContentType="image/png"/>
  <Override PartName="/ppt/media/image24.png" ContentType="image/png"/>
  <Override PartName="/ppt/media/image1.png" ContentType="image/png"/>
  <Override PartName="/ppt/media/image2.png" ContentType="image/png"/>
  <Override PartName="/ppt/media/image25.jpeg" ContentType="image/jpeg"/>
  <Override PartName="/ppt/media/image3.png" ContentType="image/pn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85096-BA38-44AA-B8E8-BC87D602F0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1DFDF-B450-44F6-80D4-9F76118F73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BC303-E2D6-4873-B485-46A973409E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FAA42-262D-41DF-8954-872BC2FD84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914040" y="434340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issolves in water easily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ar or non-polar molecule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about Oxygen? Does that dissolve in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B6505-1C76-4E63-8C5E-5D9D3689DC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914040" y="434340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issolves in water easily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ar or non-polar molecule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about Oxygen? Does that dissolve in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98A64-6919-4BCB-9B9C-11B2B234AA0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14040" y="434340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issolves in water easily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ar or non-polar molecule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about Oxygen? Does that dissolve in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BACB2-9791-4D48-AB9A-C3F6CB671D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8DD01-8E73-47F8-A593-2036112168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6FBEE-69E9-4B9E-AED8-0DFAE98F2C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69A8D-9051-4EE2-8313-624E69DEF0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3CF3B-57B1-4686-9A80-24E1F5E068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bon chemistry = organic chemis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it a foundational atom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makes it so importan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’t be a good building block if you only form 1 or 2 bond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C3BF-8B08-4A79-BE0F-4058BB10E6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30A9F-C2FB-47BC-891D-BCFF5DED71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formula but different structurally &amp; therefore different functionally. Molecular shape determines biological properti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Isomers may be ineffective as medicin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593E6-7142-4B92-810E-BE9EF81F432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43B5A-869B-4176-A054-B5E7B9FB3F1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macromolecules are polym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condensation (dehydration) rea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eakdown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hydrolys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immense variety of polymers can be built from a small set of monom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F62F0-1E54-430E-9104-0D51998647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8272F-2211-44A5-A1E3-CA85CF66A54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27F60-56B3-483A-B6ED-103F77284E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7248A-4DB9-44A1-ADEB-B7867B94BF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6588D-F4BB-4213-A23F-D20E80A254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5AD0E-1665-4C67-B650-CD6C885CFE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A6630-4B32-4567-92E4-1FDA3B514C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AB56-2CEC-441E-9027-897D25646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807F-0008-4892-865B-96B06D85A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1A3E2-452C-4F8D-B44B-CAF5F4F0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BD78A3-8D35-4395-B398-F4875E384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20632-AD9C-4EA6-9F0E-B0A578492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0CCFC-2C61-4337-A908-E58DD5959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5D3937-B715-4AA4-A788-901B434D7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A2542-992A-47E5-B767-BDDE27F43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F75FF-9FB0-47F5-9790-BBCB26F90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B3EBB-B912-4ED8-B73F-69535DEB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FC7C1-5AFC-41A0-B450-254C1CBA5F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865E68-6C77-471C-A647-24D58E4556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B83C-33A7-4431-8457-B20DE0E88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337EDE-4E2C-4770-BD66-54C057D5D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8DFA5A-E354-4AA0-9E55-59F4D5FA7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B0DF71-8ED4-4B01-8D73-CEBB27D6B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56910D-84AC-4D3A-92EC-3ACE3E6C5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12EA16-C5B4-4BFC-A22E-B691D9F35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90D105-9E69-493A-8471-F323ECF0A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77FA9C-10DC-4C49-9FD2-AC30A1A1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0F2423-E660-4B5C-AAB1-DEC70D8F4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65F279-4919-4125-8698-5E94AE642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49123E-1936-491E-9BF0-50A13619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9921-A005-46AD-B021-84B15D46D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BAE6E7-F4AA-476A-8545-7FCD240006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D84096D-3345-4200-A47B-C7E46ED9DE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2593202-9D43-4D24-8FDD-1921A2F81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BEA003E-D26C-4D67-B07F-CC5F9B09D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01E669A-B13B-4FE0-B832-C9577BAEA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0B14258-6022-4945-A927-433272F1F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9053433-1863-4BB6-8632-FF4094241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74F3DA6-53E8-4252-999E-2E988CA3F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BB327D4-1A19-43E6-B48E-01ED6CC6B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A52FCBF-E11E-463C-8A09-BC58108AC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FBE295-E9C7-4942-89FE-21698D96A1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DD5BE5D-1341-4F71-834E-DE3036E21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63253DA-5122-48D7-8A61-34F1DA43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837638C-DC2F-4D9D-8AB5-738E912615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5D8EE7-0E28-4A5C-A5DE-0B8B74BC26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BB9FCA-BCE5-4BB9-8624-F233E770F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3159F7-1868-4497-9963-BEBF74E65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208273-2926-445B-A058-817674413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0901A2-3D21-40E3-9F79-0A8EBF47F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779564-6A20-46B8-B088-DE153152F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87591F-245A-4ADF-8336-FCA1AA740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1FD63D-4F49-48B8-9BB5-C926E9FCA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9971EF-B166-41B8-942D-A051E1A4E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97C447-99A0-4727-ADB7-7FBA6A694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696BFD-4B8B-4CDA-B36F-CC4F7D6EB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402C94-718D-4BA1-8E68-75D1797F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0591AA-3FAC-4ABD-BE5B-EAD4BE4D48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6015C9-5556-4E37-8811-C89B6B29D5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65896B-DEE2-4B37-A37D-A71CD5715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E51EB4-03AB-47DB-8127-F5866C3DD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5E1484-762C-47E3-9FF1-E948F8AAC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14DC81-5DFB-4060-B46E-E65B78E93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D535D9-EB64-4F62-B690-21F7B7764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4DBEAE-1691-4A27-80AB-71E057E39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EBD468-E036-42B5-8BB1-7189064E8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F7F210-E262-4E13-AC57-ADF4AC058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809B20-8A87-4123-ADFA-3CDDC4BF0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2EBD83-6952-4E90-AC08-5CA7DCABF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AA6123-15AD-442A-B890-F842A44A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DE0CBE-7528-46BD-BCA1-1586DCC908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2236C6-240A-49C5-830D-2DACD26CA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93127A-C797-4758-9A8A-114685E97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615F31-EFC4-4CA3-8F83-2EA4193DE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288630-8902-4DF6-9824-DE0D68A1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0DEC-19A4-47E7-BE8A-A38570B91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65B87D-88FC-4067-961F-C081FDFBB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82BACF-7607-49CF-A072-484A18D63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F2C7F6-737B-4CF8-B2E1-D9E7C2439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684CBB-9463-465E-AF83-A950BDE5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B8EF56-4359-4FFB-A8A8-4411451A5B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442D-A056-4073-87B5-05D60602F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F48EEB-E176-44DB-9CF7-F51164DCC5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0D618B-1433-4682-B919-A4BE603C9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014901-820C-41CD-B940-5DC9D5872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C9E9-5306-4982-8793-1F20F7614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E8A3E1-E70E-4F5D-86AC-96D05AB0F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F9F347-BFF5-4996-BEF2-96F694794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A9A6E1-C598-4DD8-9CD5-965432526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1DBED9-83A8-443D-B61D-0C536E508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418EB3-B6F3-48CC-B38C-FB4CEDEAF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34DD64-1F0A-4FBA-8F16-7488E32C5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7E39DB-5187-414B-B064-C238BEC1D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2C6023-71AA-44F9-A235-24B1A5FE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F9258B-60BE-4D33-8A08-632E00079F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F5B6E3-7681-4618-AFEC-BD0F6929F5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6D0C-20C1-4972-AFC6-A6DD9C226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4BB163-EE44-44F0-BFE2-865713293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FAEB92-7890-4C1A-9B10-A3854E4F0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9E65D2-7BFE-45AE-BED1-4B743C6C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E15E9D-B478-4FA9-9325-C987F818B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030637-BA1D-4A2E-B99F-AFE29F449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32D406-F953-4037-94D4-48FADFDE7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489619-73B9-4422-A681-FD63342BE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F3A343-860E-488C-89DA-F0C81390C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A42A28-1664-40CB-AF84-A749771BD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440D91-F50F-4211-9CD8-ECDF28C3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E89A-1816-429B-9B24-F299B14F4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A9AE9A-7667-4C5B-A28F-15A9350384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00BF0-EEB0-4A06-B910-3D9E67CDDE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50B8B-0D2A-49D2-90B7-896AD737D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83E2A-36FF-4031-BEF0-D809EF3E5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352A9-DD3A-4BCA-BAB1-85AFD0372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10AAA-F1C5-4521-A381-D386298B1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08A87-0BB5-45E2-BB5D-BEE1B1210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E5EFB-E99F-45BF-B1AA-66447F61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EA17B-17CD-4279-BF65-43A24D540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3C83C-58AA-4E10-B4E6-0E986C9A8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434A-6A0F-49BC-83DB-4CF1DC1C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585F5-BFDA-4F23-A876-5B9D704AD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513EC-887E-4A64-897C-92DC7725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85ED4-61FA-42EC-B931-2EAF425990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2AD03E-06D5-431C-AC62-3C389F3D61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9A3673-9870-4D25-9222-11AC75243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9A598A-2A5D-49D3-B593-D31DD6690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F3FE95-3E1D-45B6-8C9F-504E5CA1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28134E-441B-4F56-8A86-418D1BA8C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0ED6F3-1D38-4B56-B878-29D48A673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013930-7C69-4EB8-AA1A-0FFA34710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C9D2-F81C-4A68-A487-4131FD34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22F13F-F8F1-4C3B-8A48-82437F5F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492953-13AD-4205-9A54-96D4CE9C8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DF2622-E390-44B6-A03A-F8D9A1D6E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E5F66D-F960-4EBB-90BC-C11BB772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372E86-0F0B-4D4D-9BD3-1F3FF37132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8761DC-3E0A-45F8-BB78-10B0124C0B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3C9CAE-3A4C-48B8-BDCA-4D646E285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83C821-43F8-4E65-95C6-0FCF85828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8404C6-9631-434B-AC1D-4C3C81EC3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BE9C882-16B3-4532-83F4-928F90B19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99AF-B2A3-4751-A8FF-588EA1F2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52F5AF-4EF0-411C-8527-24171042B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801F9A-EFBD-45F9-9A4D-719FA91C0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F2F82B-9B0F-4E0D-9641-E0CD164CC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CA53C9-5CE3-49A3-A25A-400517FA2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174128-E0B8-4186-B539-9C8BFD1C8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B3417A-9F37-4A84-817C-367784C3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D2738E-7BC6-47FD-A7AE-322F9B91C3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646D2D-5A78-44D5-9093-A45DA89349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61F82-2FFA-444B-B5C9-836F2526E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CEB62-3276-4F00-90E6-FE5F611EE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EED87-AE53-4C84-99BB-BFD1CBA894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  <a:ea typeface="MS PGothic"/>
              </a:rPr>
              <a:t>AP Biolog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sldNum" idx="20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8A09B-5AAF-4A5A-8E4C-9E846111239F}" type="slidenum">
              <a:rPr b="1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dt" idx="21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  <a:ea typeface="MS PGothic"/>
              </a:rPr>
              <a:t>AP Biolog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22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0B5D3-1C4B-4514-B50C-5707E7F3AD5E}" type="slidenum">
              <a:rPr b="1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dt" idx="23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  <a:ea typeface="MS PGothic"/>
              </a:rPr>
              <a:t>AP Biolog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sldNum" idx="24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AA7AD-E433-4E06-9D4A-A744F64C4934}" type="slidenum">
              <a:rPr b="1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dt" idx="25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  <a:ea typeface="MS PGothic"/>
              </a:rPr>
              <a:t>AP Biolog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Num" idx="26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03B19-5D01-4A54-87F2-857D1C68ADC6}" type="slidenum">
              <a:rPr b="1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dt" idx="27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935DB-4822-400C-B171-7EED9F08AFDB}" type="slidenum">
              <a:rPr b="1" lang="en-US" sz="1200" spc="-1" strike="noStrike">
                <a:solidFill>
                  <a:srgbClr val="40458c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5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  <a:ea typeface="MS PGothic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  <a:ea typeface="MS PGothic"/>
              </a:rPr>
              <a:t>AP Biolog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3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74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Group 78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90" name="Line 75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Line 76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Oval 77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" name="Group 79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94" name="Line 80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Line 81"/>
            <p:cNvSpPr/>
            <p:nvPr/>
          </p:nvSpPr>
          <p:spPr>
            <a:xfrm flipV="1">
              <a:off x="838368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Oval 82"/>
            <p:cNvSpPr/>
            <p:nvPr/>
          </p:nvSpPr>
          <p:spPr>
            <a:xfrm rot="10800000">
              <a:off x="8307360" y="5029560"/>
              <a:ext cx="15228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" name="Text Box 83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  <a:ea typeface="MS PGothic"/>
              </a:rPr>
              <a:t>AP Biolog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6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  <a:ea typeface="MS PGothic"/>
              </a:rPr>
              <a:t>AP Biolog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sldNum" idx="8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ACE33-F432-4767-A015-2FD231053379}" type="slidenum">
              <a:rPr b="1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dt" idx="9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  <a:ea typeface="MS PGothic"/>
              </a:rPr>
              <a:t>AP Biolog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sldNum" idx="10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4E34B-C071-4239-8ABB-6BF683AF570B}" type="slidenum">
              <a:rPr b="1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dt" idx="11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  <a:ea typeface="MS PGothic"/>
              </a:rPr>
              <a:t>AP Biolog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12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A90D7-719F-488A-AAD3-96BC1A8B824F}" type="slidenum">
              <a:rPr b="1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dt" idx="13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  <a:ea typeface="MS PGothic"/>
              </a:rPr>
              <a:t>AP Biolog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sldNum" idx="14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DBEBB-D2F2-4B80-96A3-78FB79E3BF69}" type="slidenum">
              <a:rPr b="1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dt" idx="15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  <a:ea typeface="MS PGothic"/>
              </a:rPr>
              <a:t>AP Biolog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sldNum" idx="16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906A0-7A7E-4541-B89C-64C87B180300}" type="slidenum">
              <a:rPr b="1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dt" idx="17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  <a:ea typeface="MS PGothic"/>
              </a:rPr>
              <a:t>AP Biolog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sldNum" idx="18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5E123-C2CF-4635-8939-50FC71D227E7}" type="slidenum">
              <a:rPr b="1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dt" idx="19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19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hyperlink" Target="http://www.google.com/url?sa=i&amp;rct=j&amp;q=enzyme+graph&amp;source=images&amp;cd=&amp;cad=rja&amp;uact=8&amp;ved=0CAcQjRw&amp;url=http%3A%2F%2Fmandevillehigh.stpsb.org%2Fteachersites%2Flaura_decker%2Fenz_rxn_graphs.htm&amp;ei=sQMjVaCvO9O3ogTtxIGYDg&amp;bvm=bv.89947451,d.cGU&amp;psig=AFQjCNHRRcnNKeQYLpNVnKgR8WDU-9D6LQ&amp;ust=1428444434538802" TargetMode="External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P Test Biochemistry 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Date Placeholder 4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2004-200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1" name="Picture 8" descr=""/>
          <p:cNvPicPr/>
          <p:nvPr/>
        </p:nvPicPr>
        <p:blipFill>
          <a:blip r:embed="rId1"/>
          <a:stretch/>
        </p:blipFill>
        <p:spPr>
          <a:xfrm>
            <a:off x="5715000" y="3505320"/>
            <a:ext cx="2946240" cy="2209680"/>
          </a:xfrm>
          <a:prstGeom prst="rect">
            <a:avLst/>
          </a:prstGeom>
          <a:ln w="0">
            <a:noFill/>
          </a:ln>
        </p:spPr>
      </p:pic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hes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H bonding </a:t>
            </a:r>
            <a:r>
              <a:rPr b="1" lang="en-US" sz="3000" spc="-1" strike="noStrike" u="sng">
                <a:solidFill>
                  <a:srgbClr val="0f116a"/>
                </a:solidFill>
                <a:uFillTx/>
                <a:latin typeface="Arial"/>
              </a:rPr>
              <a:t>between 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O creates </a:t>
            </a:r>
            <a:r>
              <a:rPr b="1" lang="en-US" sz="3000" spc="-1" strike="noStrike" u="sng">
                <a:solidFill>
                  <a:srgbClr val="660066"/>
                </a:solidFill>
                <a:uFillTx/>
                <a:latin typeface="Arial"/>
              </a:rPr>
              <a:t>cohesio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water is “sticky”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urface tension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rinking straw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Water bug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Water moves up a tre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Date Placeholder 4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2004-200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dhes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O molecules form H bonds with </a:t>
            </a:r>
            <a:r>
              <a:rPr b="1" lang="en-US" sz="3000" spc="-1" strike="noStrike" u="sng">
                <a:solidFill>
                  <a:srgbClr val="0f116a"/>
                </a:solidFill>
                <a:uFillTx/>
                <a:latin typeface="Arial"/>
              </a:rPr>
              <a:t>other 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ubstances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meniscu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water climbs up fiber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ex. paper towel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Date Placeholder 4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2004-200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8" name="Picture 4" descr=""/>
          <p:cNvPicPr/>
          <p:nvPr/>
        </p:nvPicPr>
        <p:blipFill>
          <a:blip r:embed="rId1"/>
          <a:srcRect l="0" t="0" r="0" b="3597"/>
          <a:stretch/>
        </p:blipFill>
        <p:spPr>
          <a:xfrm>
            <a:off x="1371600" y="3613320"/>
            <a:ext cx="3429000" cy="3168360"/>
          </a:xfrm>
          <a:prstGeom prst="rect">
            <a:avLst/>
          </a:prstGeom>
          <a:ln w="0">
            <a:noFill/>
          </a:ln>
        </p:spPr>
      </p:pic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ater is the solvent of lif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O is a good solvent due to its polarity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olar H</a:t>
            </a:r>
            <a:r>
              <a:rPr b="1" lang="en-US" sz="28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 molecules surround + &amp; – ion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olvents dissolve solutes creating aqueous solution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651" name="Picture 6" descr=""/>
          <p:cNvPicPr/>
          <p:nvPr/>
        </p:nvPicPr>
        <p:blipFill>
          <a:blip r:embed="rId2"/>
          <a:stretch/>
        </p:blipFill>
        <p:spPr>
          <a:xfrm>
            <a:off x="5334120" y="3508200"/>
            <a:ext cx="3352680" cy="32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Date Placeholder 4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2004-200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Hydrophilic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773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Hydrophilic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ubstances have affinity for H</a:t>
            </a:r>
            <a:r>
              <a:rPr b="1" lang="en-US" sz="28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Polar: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they have a charg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655" name="Picture 1033" descr=""/>
          <p:cNvPicPr/>
          <p:nvPr/>
        </p:nvPicPr>
        <p:blipFill>
          <a:blip r:embed="rId1"/>
          <a:stretch/>
        </p:blipFill>
        <p:spPr>
          <a:xfrm>
            <a:off x="5562720" y="3481560"/>
            <a:ext cx="3352680" cy="322416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1034" descr=""/>
          <p:cNvPicPr/>
          <p:nvPr/>
        </p:nvPicPr>
        <p:blipFill>
          <a:blip r:embed="rId2"/>
          <a:srcRect l="0" t="0" r="0" b="3597"/>
          <a:stretch/>
        </p:blipFill>
        <p:spPr>
          <a:xfrm>
            <a:off x="1447920" y="3813120"/>
            <a:ext cx="304776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Date Placeholder 4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2004-200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Hydrophobic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80773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Hydrophobic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ubstances do not have affinity for H</a:t>
            </a:r>
            <a:r>
              <a:rPr b="1" lang="en-US" sz="28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Non-polar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il, wax, fat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660" name="Picture 1028" descr=""/>
          <p:cNvPicPr/>
          <p:nvPr/>
        </p:nvPicPr>
        <p:blipFill>
          <a:blip r:embed="rId1"/>
          <a:stretch/>
        </p:blipFill>
        <p:spPr>
          <a:xfrm>
            <a:off x="685800" y="3962520"/>
            <a:ext cx="4410000" cy="242388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1029" descr=""/>
          <p:cNvPicPr/>
          <p:nvPr/>
        </p:nvPicPr>
        <p:blipFill>
          <a:blip r:embed="rId2"/>
          <a:srcRect l="0" t="10763" r="0" b="0"/>
          <a:stretch/>
        </p:blipFill>
        <p:spPr>
          <a:xfrm>
            <a:off x="6019920" y="3300480"/>
            <a:ext cx="2631960" cy="3355920"/>
          </a:xfrm>
          <a:prstGeom prst="rect">
            <a:avLst/>
          </a:prstGeom>
          <a:ln w="0">
            <a:noFill/>
          </a:ln>
        </p:spPr>
      </p:pic>
      <p:sp>
        <p:nvSpPr>
          <p:cNvPr id="662" name="Rectangle 1030"/>
          <p:cNvSpPr/>
          <p:nvPr/>
        </p:nvSpPr>
        <p:spPr>
          <a:xfrm>
            <a:off x="1977480" y="632376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fat (triglycero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Date Placeholder 4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2004-200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Ice is less dense then liquid water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Ice </a:t>
            </a:r>
            <a:r>
              <a:rPr b="1" lang="en-US" sz="3000" spc="-1" strike="noStrike" u="sng">
                <a:solidFill>
                  <a:srgbClr val="660066"/>
                </a:solidFill>
                <a:uFillTx/>
                <a:latin typeface="Arial"/>
              </a:rPr>
              <a:t>floats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!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H bonds form a crystal with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loose structur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Molecules are further apart and less dens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666" name="Picture 5" descr=""/>
          <p:cNvPicPr/>
          <p:nvPr/>
        </p:nvPicPr>
        <p:blipFill>
          <a:blip r:embed="rId1"/>
          <a:srcRect l="0" t="0" r="69216" b="11934"/>
          <a:stretch/>
        </p:blipFill>
        <p:spPr>
          <a:xfrm>
            <a:off x="6553080" y="3543480"/>
            <a:ext cx="2210040" cy="285732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7" descr="hbond_ice"/>
          <p:cNvPicPr/>
          <p:nvPr/>
        </p:nvPicPr>
        <p:blipFill>
          <a:blip r:embed="rId2"/>
          <a:stretch/>
        </p:blipFill>
        <p:spPr>
          <a:xfrm>
            <a:off x="3465360" y="3975120"/>
            <a:ext cx="2708280" cy="22575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10" descr="Watch_for_Ice"/>
          <p:cNvPicPr/>
          <p:nvPr/>
        </p:nvPicPr>
        <p:blipFill>
          <a:blip r:embed="rId3"/>
          <a:stretch/>
        </p:blipFill>
        <p:spPr>
          <a:xfrm>
            <a:off x="1447920" y="4038480"/>
            <a:ext cx="158580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Date Placeholder 4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2004-200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pecific he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O has high specific he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ue to H bonding: it takes a lot of energy to change the temperature of water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O resists changes in temperatur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akes a lot to heat it up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akes a lot to cool it down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O moderates temperatures on Earth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Date Placeholder 4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2004-200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vaporative cooling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46483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Organisms rely on heat of vaporization (energy required to turn liquid to gas) to remove he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1713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171360" indent="-17136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s bonds are broken, heat is released into the environmen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675" name="Picture 6" descr=""/>
          <p:cNvPicPr/>
          <p:nvPr/>
        </p:nvPicPr>
        <p:blipFill>
          <a:blip r:embed="rId1"/>
          <a:stretch/>
        </p:blipFill>
        <p:spPr>
          <a:xfrm>
            <a:off x="5884920" y="1612800"/>
            <a:ext cx="3030480" cy="50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Date Placeholder 4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2004-200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ater forms ion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Hydrogen ion (H</a:t>
            </a:r>
            <a:r>
              <a:rPr b="1" lang="en-US" sz="2600" spc="-1" strike="noStrike" baseline="30000">
                <a:solidFill>
                  <a:srgbClr val="0f116a"/>
                </a:solidFill>
                <a:latin typeface="Arial"/>
              </a:rPr>
              <a:t>+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) splits off from water to leave a hydroxide ion (</a:t>
            </a:r>
            <a:r>
              <a:rPr b="1" lang="en-US" sz="2600" spc="-1" strike="noStrike" baseline="30000">
                <a:solidFill>
                  <a:srgbClr val="0f116a"/>
                </a:solidFill>
                <a:latin typeface="Arial"/>
              </a:rPr>
              <a:t>-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OH) 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H</a:t>
            </a:r>
            <a:r>
              <a:rPr b="1" lang="en-US" sz="26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0 ----&gt; H</a:t>
            </a:r>
            <a:r>
              <a:rPr b="1" lang="en-US" sz="3000" spc="-1" strike="noStrike" baseline="30000">
                <a:solidFill>
                  <a:srgbClr val="660066"/>
                </a:solidFill>
                <a:latin typeface="Arial"/>
              </a:rPr>
              <a:t>+</a:t>
            </a: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  +  </a:t>
            </a:r>
            <a:r>
              <a:rPr b="1" lang="en-US" sz="2600" spc="-1" strike="noStrike" baseline="30000">
                <a:solidFill>
                  <a:srgbClr val="660066"/>
                </a:solidFill>
                <a:latin typeface="Arial"/>
              </a:rPr>
              <a:t>-</a:t>
            </a: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OH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If concentration of 2 ions is equal, </a:t>
            </a:r>
            <a:br>
              <a:rPr sz="2600"/>
            </a:b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ater is </a:t>
            </a:r>
            <a:r>
              <a:rPr b="1" lang="en-US" sz="2600" spc="-1" strike="noStrike" u="sng">
                <a:solidFill>
                  <a:srgbClr val="660066"/>
                </a:solidFill>
                <a:uFillTx/>
                <a:latin typeface="Arial"/>
              </a:rPr>
              <a:t>neutral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If [</a:t>
            </a: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H</a:t>
            </a:r>
            <a:r>
              <a:rPr b="1" lang="en-US" sz="3000" spc="-1" strike="noStrike" baseline="30000">
                <a:solidFill>
                  <a:srgbClr val="660066"/>
                </a:solidFill>
                <a:latin typeface="Arial"/>
              </a:rPr>
              <a:t>+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]</a:t>
            </a: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&gt; [</a:t>
            </a:r>
            <a:r>
              <a:rPr b="1" lang="en-US" sz="2600" spc="-1" strike="noStrike" baseline="30000">
                <a:solidFill>
                  <a:srgbClr val="660066"/>
                </a:solidFill>
                <a:latin typeface="Arial"/>
              </a:rPr>
              <a:t>-</a:t>
            </a: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OH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], water is </a:t>
            </a:r>
            <a:r>
              <a:rPr b="1" lang="en-US" sz="2600" spc="-1" strike="noStrike" u="sng">
                <a:solidFill>
                  <a:srgbClr val="660066"/>
                </a:solidFill>
                <a:uFillTx/>
                <a:latin typeface="Arial"/>
              </a:rPr>
              <a:t>acidic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If [</a:t>
            </a:r>
            <a:r>
              <a:rPr b="1" lang="en-US" sz="2600" spc="-1" strike="noStrike" baseline="30000">
                <a:solidFill>
                  <a:srgbClr val="660066"/>
                </a:solidFill>
                <a:latin typeface="Arial"/>
              </a:rPr>
              <a:t>-</a:t>
            </a: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OH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] &gt; [</a:t>
            </a: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H</a:t>
            </a:r>
            <a:r>
              <a:rPr b="1" lang="en-US" sz="3000" spc="-1" strike="noStrike" baseline="30000">
                <a:solidFill>
                  <a:srgbClr val="660066"/>
                </a:solidFill>
                <a:latin typeface="Arial"/>
              </a:rPr>
              <a:t>+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],</a:t>
            </a: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ater is </a:t>
            </a:r>
            <a:r>
              <a:rPr b="1" lang="en-US" sz="2600" spc="-1" strike="noStrike" u="sng">
                <a:solidFill>
                  <a:srgbClr val="660066"/>
                </a:solidFill>
                <a:uFillTx/>
                <a:latin typeface="Arial"/>
              </a:rPr>
              <a:t>basic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660066"/>
                </a:solidFill>
                <a:uFillTx/>
                <a:latin typeface="Arial"/>
              </a:rPr>
              <a:t>pH scale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= how acidic or basic a solution is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Date Placeholder 4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2003-200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0" name="Picture 4" descr=""/>
          <p:cNvPicPr/>
          <p:nvPr/>
        </p:nvPicPr>
        <p:blipFill>
          <a:blip r:embed="rId1"/>
          <a:srcRect l="27000" t="13585" r="27000" b="13585"/>
          <a:stretch/>
        </p:blipFill>
        <p:spPr>
          <a:xfrm>
            <a:off x="6248520" y="3886200"/>
            <a:ext cx="2655720" cy="2786040"/>
          </a:xfrm>
          <a:prstGeom prst="rect">
            <a:avLst/>
          </a:prstGeom>
          <a:ln w="0">
            <a:noFill/>
          </a:ln>
        </p:spPr>
      </p:pic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hemistry of Lif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Organic chemistry is the study of  </a:t>
            </a:r>
            <a:r>
              <a:rPr b="1" lang="en-US" sz="3000" spc="-1" strike="noStrike" u="sng">
                <a:solidFill>
                  <a:srgbClr val="660066"/>
                </a:solidFill>
                <a:uFillTx/>
                <a:latin typeface="Arial"/>
              </a:rPr>
              <a:t>carbon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ompound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 atoms are versatile building block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4 electrons in outer shel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4 stable covalent bond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683" name="Picture 5" descr=""/>
          <p:cNvPicPr/>
          <p:nvPr/>
        </p:nvPicPr>
        <p:blipFill>
          <a:blip r:embed="rId2"/>
          <a:srcRect l="0" t="0" r="0" b="19366"/>
          <a:stretch/>
        </p:blipFill>
        <p:spPr>
          <a:xfrm>
            <a:off x="1066680" y="4724280"/>
            <a:ext cx="52070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Date Placeholder 4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  <a:ea typeface="MS PGothic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660066"/>
                </a:solidFill>
                <a:latin typeface="Arial"/>
              </a:rPr>
              <a:t>Life requires ~25 chemical elements</a:t>
            </a:r>
            <a:endParaRPr b="1" lang="en-US" sz="33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bout 25 elements are essential for lif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Four elements make up 96% of living matter: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carbon (C)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• hydrogen (H)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oxygen (O)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• nitrogen (N)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Four elements make up most of remaining 4%: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phosphorus (P)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• calcium (Ca)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sulfur (S)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• potassium (K)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Date Placeholder 4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2003-200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Isomer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Molecules with same molecular formula but different structures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ifferent chemical properti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graphicFrame>
        <p:nvGraphicFramePr>
          <p:cNvPr id="687" name="Object 2"/>
          <p:cNvGraphicFramePr/>
          <p:nvPr/>
        </p:nvGraphicFramePr>
        <p:xfrm>
          <a:off x="1066680" y="3657600"/>
          <a:ext cx="2895840" cy="91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657600"/>
                    <a:ext cx="28958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9" name="Object 3"/>
          <p:cNvGraphicFramePr/>
          <p:nvPr/>
        </p:nvGraphicFramePr>
        <p:xfrm>
          <a:off x="3657600" y="4952880"/>
          <a:ext cx="2286000" cy="1125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9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4952880"/>
                    <a:ext cx="2286000" cy="11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1" name="Object 4"/>
          <p:cNvGraphicFramePr/>
          <p:nvPr/>
        </p:nvGraphicFramePr>
        <p:xfrm>
          <a:off x="6095880" y="3429000"/>
          <a:ext cx="1600200" cy="16002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69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5880" y="3429000"/>
                    <a:ext cx="16002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Date Placeholder 4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How to build a polymer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ondensation reaction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ehydration synthesi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joins monomers by </a:t>
            </a:r>
            <a:r>
              <a:rPr b="1" lang="ja-JP" sz="2800" spc="-1" strike="noStrike">
                <a:solidFill>
                  <a:srgbClr val="40458c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aking</a:t>
            </a:r>
            <a:r>
              <a:rPr b="1" lang="ja-JP" sz="2800" spc="-1" strike="noStrike">
                <a:solidFill>
                  <a:srgbClr val="40458c"/>
                </a:solidFill>
                <a:latin typeface="Arial"/>
              </a:rPr>
              <a:t>”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H</a:t>
            </a:r>
            <a:r>
              <a:rPr b="1" lang="en-US" sz="28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 out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requires energy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&amp; enzym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696" name="Picture 4" descr=""/>
          <p:cNvPicPr/>
          <p:nvPr/>
        </p:nvPicPr>
        <p:blipFill>
          <a:blip r:embed="rId1"/>
          <a:srcRect l="0" t="0" r="7217" b="53348"/>
          <a:stretch/>
        </p:blipFill>
        <p:spPr>
          <a:xfrm>
            <a:off x="4724280" y="3817800"/>
            <a:ext cx="434340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Date Placeholder 4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8" name="Picture 5" descr=""/>
          <p:cNvPicPr/>
          <p:nvPr/>
        </p:nvPicPr>
        <p:blipFill>
          <a:blip r:embed="rId1"/>
          <a:srcRect l="0" t="47950" r="7217" b="4107"/>
          <a:stretch/>
        </p:blipFill>
        <p:spPr>
          <a:xfrm>
            <a:off x="4724280" y="3581280"/>
            <a:ext cx="4343400" cy="3124440"/>
          </a:xfrm>
          <a:prstGeom prst="rect">
            <a:avLst/>
          </a:prstGeom>
          <a:ln w="0">
            <a:noFill/>
          </a:ln>
        </p:spPr>
      </p:pic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How to break down a polymer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Arial"/>
              </a:rPr>
              <a:t>Hydrolysis</a:t>
            </a:r>
            <a:endParaRPr b="1" lang="en-US" sz="32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0458c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</a:t>
            </a:r>
            <a:r>
              <a:rPr b="1" lang="en-US" sz="3000" spc="-1" strike="noStrike">
                <a:solidFill>
                  <a:srgbClr val="40458c"/>
                </a:solidFill>
                <a:latin typeface="Arial"/>
              </a:rPr>
              <a:t> to break apart monomers </a:t>
            </a:r>
            <a:endParaRPr b="1" lang="en-US" sz="30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reverse of condensation reaction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O is split into H and OH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Date Placeholder 3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Rectangle 4"/>
          <p:cNvSpPr/>
          <p:nvPr/>
        </p:nvSpPr>
        <p:spPr>
          <a:xfrm>
            <a:off x="914400" y="1657440"/>
            <a:ext cx="6781680" cy="3581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Straight Connector 6"/>
          <p:cNvSpPr/>
          <p:nvPr/>
        </p:nvSpPr>
        <p:spPr>
          <a:xfrm>
            <a:off x="4305240" y="1657440"/>
            <a:ext cx="0" cy="3581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Straight Connector 8"/>
          <p:cNvSpPr/>
          <p:nvPr/>
        </p:nvSpPr>
        <p:spPr>
          <a:xfrm>
            <a:off x="914400" y="3448080"/>
            <a:ext cx="678168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TextBox 9"/>
          <p:cNvSpPr/>
          <p:nvPr/>
        </p:nvSpPr>
        <p:spPr>
          <a:xfrm>
            <a:off x="1537920" y="121752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arbohydra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TextBox 10"/>
          <p:cNvSpPr/>
          <p:nvPr/>
        </p:nvSpPr>
        <p:spPr>
          <a:xfrm>
            <a:off x="5310360" y="126216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Protei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TextBox 11"/>
          <p:cNvSpPr/>
          <p:nvPr/>
        </p:nvSpPr>
        <p:spPr>
          <a:xfrm>
            <a:off x="1836720" y="522288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Lipi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TextBox 12"/>
          <p:cNvSpPr/>
          <p:nvPr/>
        </p:nvSpPr>
        <p:spPr>
          <a:xfrm>
            <a:off x="4956840" y="5222880"/>
            <a:ext cx="200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Nucleic Aci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etabolism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f116a"/>
                </a:solidFill>
                <a:uFillTx/>
                <a:latin typeface="Arial"/>
              </a:rPr>
              <a:t>Metabolism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is the sum of all chemical reactions in your body.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If a reactions breaks things down, it is </a:t>
            </a:r>
            <a:r>
              <a:rPr b="1" lang="en-US" sz="3000" spc="-1" strike="noStrike" u="sng">
                <a:solidFill>
                  <a:srgbClr val="0f116a"/>
                </a:solidFill>
                <a:uFillTx/>
                <a:latin typeface="Arial"/>
              </a:rPr>
              <a:t>catabolic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If a reaction builds things up, it is </a:t>
            </a:r>
            <a:r>
              <a:rPr b="1" lang="en-US" sz="3000" spc="-1" strike="noStrike" u="sng">
                <a:solidFill>
                  <a:srgbClr val="0f116a"/>
                </a:solidFill>
                <a:uFillTx/>
                <a:latin typeface="Arial"/>
              </a:rPr>
              <a:t>anabolic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660066"/>
                </a:solidFill>
                <a:latin typeface="Arial"/>
              </a:rPr>
              <a:t>Energy is released or consumed</a:t>
            </a:r>
            <a:endParaRPr b="1" lang="en-US" sz="43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380520" y="1904760"/>
            <a:ext cx="4876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In an </a:t>
            </a:r>
            <a:r>
              <a:rPr b="1" lang="en-US" sz="2200" spc="-1" strike="noStrike" u="sng">
                <a:solidFill>
                  <a:srgbClr val="0f116a"/>
                </a:solidFill>
                <a:uFillTx/>
                <a:latin typeface="Arial"/>
              </a:rPr>
              <a:t>exergonic reaction</a:t>
            </a: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 energy is released.</a:t>
            </a:r>
            <a:endParaRPr b="1" lang="en-US" sz="22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When you break things down, you release energy</a:t>
            </a:r>
            <a:endParaRPr b="1" lang="en-US" sz="22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All catabolic reactions are exergonic</a:t>
            </a:r>
            <a:endParaRPr b="1" lang="en-US" sz="22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Cellular respiration is exergonic.</a:t>
            </a:r>
            <a:endParaRPr b="1" lang="en-US" sz="22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These are spontaneous reactions</a:t>
            </a:r>
            <a:endParaRPr b="1" lang="en-US" sz="22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Delta G (a measure of free energy) is negative</a:t>
            </a:r>
            <a:endParaRPr b="1" lang="en-US" sz="22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713" name="Picture 3" descr=""/>
          <p:cNvPicPr/>
          <p:nvPr/>
        </p:nvPicPr>
        <p:blipFill>
          <a:blip r:embed="rId1"/>
          <a:stretch/>
        </p:blipFill>
        <p:spPr>
          <a:xfrm>
            <a:off x="5257800" y="2590920"/>
            <a:ext cx="354348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660066"/>
                </a:solidFill>
                <a:latin typeface="Arial"/>
              </a:rPr>
              <a:t>Energy is released or consumed</a:t>
            </a:r>
            <a:endParaRPr b="1" lang="en-US" sz="43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380880" y="1752480"/>
            <a:ext cx="5181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In an </a:t>
            </a:r>
            <a:r>
              <a:rPr b="1" lang="en-US" sz="2200" spc="-1" strike="noStrike" u="sng">
                <a:solidFill>
                  <a:srgbClr val="0f116a"/>
                </a:solidFill>
                <a:uFillTx/>
                <a:latin typeface="Arial"/>
              </a:rPr>
              <a:t>endergonic reaction</a:t>
            </a: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 energy is absorbed.</a:t>
            </a:r>
            <a:endParaRPr b="1" lang="en-US" sz="22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When you build things, you need energy</a:t>
            </a:r>
            <a:endParaRPr b="1" lang="en-US" sz="22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All anabolic reactions are endergonic</a:t>
            </a:r>
            <a:endParaRPr b="1" lang="en-US" sz="22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Photosynthesis is endergonic</a:t>
            </a:r>
            <a:endParaRPr b="1" lang="en-US" sz="22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These are non-spontaneous reactions</a:t>
            </a:r>
            <a:endParaRPr b="1" lang="en-US" sz="22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Delta G is positive</a:t>
            </a:r>
            <a:endParaRPr b="1" lang="en-US" sz="22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716" name="Picture 3" descr=""/>
          <p:cNvPicPr/>
          <p:nvPr/>
        </p:nvPicPr>
        <p:blipFill>
          <a:blip r:embed="rId1"/>
          <a:stretch/>
        </p:blipFill>
        <p:spPr>
          <a:xfrm>
            <a:off x="5562720" y="2514600"/>
            <a:ext cx="285732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nzymes!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Enzymes are proteins.  They are catalysts that speed up chemical reactions by lowering the amount of energy needed for those reactions to start (activation energy)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719" name="Picture 3" descr=""/>
          <p:cNvPicPr/>
          <p:nvPr/>
        </p:nvPicPr>
        <p:blipFill>
          <a:blip r:embed="rId1"/>
          <a:stretch/>
        </p:blipFill>
        <p:spPr>
          <a:xfrm>
            <a:off x="228600" y="4089240"/>
            <a:ext cx="3809880" cy="276876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2" descr="http://mandevillehigh.stpsb.org/teachersites/laura_decker/enz_rxn_graphs_files/image002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00600" y="3886200"/>
            <a:ext cx="377208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Date Placeholder 4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Ionic bond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ransfer of an electro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rms + &amp; - ions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+ 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 cation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– 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 anion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f116a"/>
                </a:solidFill>
                <a:uFillTx/>
                <a:latin typeface="Arial"/>
              </a:rPr>
              <a:t>Weak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bond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613" name="Picture 4" descr=""/>
          <p:cNvPicPr/>
          <p:nvPr/>
        </p:nvPicPr>
        <p:blipFill>
          <a:blip r:embed="rId1"/>
          <a:srcRect l="0" t="2268" r="0" b="7044"/>
          <a:stretch/>
        </p:blipFill>
        <p:spPr>
          <a:xfrm>
            <a:off x="1600200" y="4343400"/>
            <a:ext cx="6095880" cy="2279520"/>
          </a:xfrm>
          <a:prstGeom prst="rect">
            <a:avLst/>
          </a:prstGeom>
          <a:ln w="0">
            <a:noFill/>
          </a:ln>
        </p:spPr>
      </p:pic>
      <p:sp>
        <p:nvSpPr>
          <p:cNvPr id="614" name="Rectangle 5"/>
          <p:cNvSpPr/>
          <p:nvPr/>
        </p:nvSpPr>
        <p:spPr>
          <a:xfrm>
            <a:off x="5029200" y="2895480"/>
            <a:ext cx="3803760" cy="14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6280" indent="-28908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alt = dissolves easily in wa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Date Placeholder 4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valent bond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wo atoms need an electro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hare a pair of electron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f116a"/>
                </a:solidFill>
                <a:uFillTx/>
                <a:latin typeface="Arial"/>
              </a:rPr>
              <a:t>Strong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bond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both atoms holding onto the electron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rms molecule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example: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water = takes energy to separat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618" name="Picture 4" descr=""/>
          <p:cNvPicPr/>
          <p:nvPr/>
        </p:nvPicPr>
        <p:blipFill>
          <a:blip r:embed="rId1"/>
          <a:srcRect l="0" t="0" r="0" b="82230"/>
          <a:stretch/>
        </p:blipFill>
        <p:spPr>
          <a:xfrm>
            <a:off x="1295280" y="3809880"/>
            <a:ext cx="762012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Date Placeholder 4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olar covalent bond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air of electrons not shared equally by 2 atom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ater = O  +  H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622" name="Picture 4" descr=""/>
          <p:cNvPicPr/>
          <p:nvPr/>
        </p:nvPicPr>
        <p:blipFill>
          <a:blip r:embed="rId1"/>
          <a:srcRect l="9598" t="5666" r="11683" b="6494"/>
          <a:stretch/>
        </p:blipFill>
        <p:spPr>
          <a:xfrm>
            <a:off x="5715000" y="3886200"/>
            <a:ext cx="3124080" cy="2362320"/>
          </a:xfrm>
          <a:prstGeom prst="rect">
            <a:avLst/>
          </a:prstGeom>
          <a:ln w="0">
            <a:noFill/>
          </a:ln>
        </p:spPr>
      </p:pic>
      <p:sp>
        <p:nvSpPr>
          <p:cNvPr id="623" name="Rectangle 6"/>
          <p:cNvSpPr/>
          <p:nvPr/>
        </p:nvSpPr>
        <p:spPr>
          <a:xfrm>
            <a:off x="838080" y="3048120"/>
            <a:ext cx="47246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xygen has stronger “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attraction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” for the shared electrons than hydro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xygen has higher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electronega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Date Placeholder 4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olar covalent bond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2 hydrogens in the water molecule form an angle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ater molecule is </a:t>
            </a:r>
            <a:r>
              <a:rPr b="1" lang="en-US" sz="3000" spc="-1" strike="noStrike" u="sng">
                <a:solidFill>
                  <a:srgbClr val="660066"/>
                </a:solidFill>
                <a:uFillTx/>
                <a:latin typeface="Arial"/>
              </a:rPr>
              <a:t>polar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xygen end is –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hydrogen end is +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Leads to many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interesting properties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of water….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627" name="Picture 4" descr=""/>
          <p:cNvPicPr/>
          <p:nvPr/>
        </p:nvPicPr>
        <p:blipFill>
          <a:blip r:embed="rId1"/>
          <a:srcRect l="9598" t="5666" r="11683" b="6494"/>
          <a:stretch/>
        </p:blipFill>
        <p:spPr>
          <a:xfrm>
            <a:off x="5715000" y="3886200"/>
            <a:ext cx="31240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Date Placeholder 4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Hydrogen bond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5029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ositive H atom in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1 water molecule is attracted to negative O in another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an occur wherever an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-OH exists in a larger molecul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f116a"/>
                </a:solidFill>
                <a:uFillTx/>
                <a:latin typeface="Arial"/>
              </a:rPr>
              <a:t>Weak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bond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631" name="Picture 5" descr=""/>
          <p:cNvPicPr/>
          <p:nvPr/>
        </p:nvPicPr>
        <p:blipFill>
          <a:blip r:embed="rId1"/>
          <a:stretch/>
        </p:blipFill>
        <p:spPr>
          <a:xfrm>
            <a:off x="6019920" y="1600200"/>
            <a:ext cx="277020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Date Placeholder 4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eview Chapter 2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Matter is made of atom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Life requires ~25 chemical element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Atomic structure determines behavior of an element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Atoms combine by chemical bonding to form molecule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Weak chemical bonds play important roles in chemistry of lif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A molecule’s biological function is related to its shap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hemical reactions make &amp; break chemical bond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Date Placeholder 4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2004-200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6" name="Picture 6" descr=""/>
          <p:cNvPicPr/>
          <p:nvPr/>
        </p:nvPicPr>
        <p:blipFill>
          <a:blip r:embed="rId1"/>
          <a:srcRect l="11428" t="0" r="11428" b="4441"/>
          <a:stretch/>
        </p:blipFill>
        <p:spPr>
          <a:xfrm>
            <a:off x="4363920" y="2157480"/>
            <a:ext cx="4703760" cy="4624200"/>
          </a:xfrm>
          <a:prstGeom prst="rect">
            <a:avLst/>
          </a:prstGeom>
          <a:ln w="0">
            <a:noFill/>
          </a:ln>
        </p:spPr>
      </p:pic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hemistry of water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O molecules form H bonds with each other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+ attracted to –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reates a sticky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molecule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639" name="Picture 8" descr="dimer"/>
          <p:cNvPicPr/>
          <p:nvPr/>
        </p:nvPicPr>
        <p:blipFill>
          <a:blip r:embed="rId2"/>
          <a:stretch/>
        </p:blipFill>
        <p:spPr>
          <a:xfrm>
            <a:off x="1170000" y="4363920"/>
            <a:ext cx="2335320" cy="11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6T21:47:54Z</dcterms:created>
  <dc:creator>Allison Magee</dc:creator>
  <dc:description/>
  <dc:language>en-US</dc:language>
  <cp:lastModifiedBy>Allison Magee</cp:lastModifiedBy>
  <dcterms:modified xsi:type="dcterms:W3CDTF">2015-04-06T22:25:57Z</dcterms:modified>
  <cp:revision>4</cp:revision>
  <dc:subject/>
  <dc:title>AP Biochemistry Review</dc:title>
</cp:coreProperties>
</file>